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1FD-FED9-4940-B812-3D30D3AB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43B-964E-47DB-A19D-64505BF5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111-FAFA-478C-B3CA-B8315AB2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196-909C-45AF-8C4E-0F79CADF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6308-1D6C-4398-9156-14B97A02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E051-2832-4EE9-9F49-E7ECD5E8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AD2A-7B36-41E6-806C-D6B643DF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FEB8-AC90-4CC4-A3C7-1A151DF5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990A-5BFF-46B7-9FE8-28D7ADFA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E463-A6BD-44AD-B17A-5B498D95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FF1F-7D49-4584-A660-EB353537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8B1-4F79-4560-8C12-CD16556C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8AA1-4171-4EE5-8C78-CC015D93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0B4E-4781-4DDA-A84F-71F0334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C96E-503D-4C81-8407-59102F38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7238-222D-43FC-9A2A-7AAFD447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D31D-1A02-422F-8E95-D365B20C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233-4FA8-4561-9037-78DDC79D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17B-51E4-4AA1-A7C4-218E8A3F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258-8EF6-4E67-BB1A-06BB003B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B27-35F0-4723-9715-6F310331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435-DD2C-4FC3-B2D0-084FA875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60D-C7E5-4366-BB0F-42108165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610-C638-4B8B-8935-5D684A27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3ED2-E421-4666-BFF0-659C095F59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8B4B-D3DA-4786-952B-3634066AC1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Адаптационные изменения при физиологической беремен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Частота сердечных сокращени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 время беременности наблюдается физиологическая тахикард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СС достигает максимума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беременности и составляет 80-95уд/м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Минутный объем сердц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ердца во время беременн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30-50%, достигая максимума на 25—30-й неделе беременности, затем постепенно уменьшается—и  ко времени родов возвращается к исход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-4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26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30-й нед повышение МОС прекращается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38—40-й неделе он возвращается к исходном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левого желудоч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50%,достигая максимума в 29-32 нед,  затем работа левого желудочка постепенно снижается и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иместре превышает исходную величину (у небеременных)  на 10%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Нагрузка на сердце у беременных повышается не только в результате увеличения сердечного выброса, массы циркулирующей крови, общей массы, но и вследствие некоторого смещения сердца, повышения внутрибрюшного давления и более высокого стояния диафрагм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ускультац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олический шум на верхушке у 50% беременны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олический шум на  легочной артерии  у 10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ение и  расщепл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ен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на на легочной артер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ЭКГ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ктрическая ось сердца отклоняется влево приблизительно на 15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ен ряд изменений на ЭКГ: укорочение интервал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нения комплекс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RS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виде увеличения амплитуды зубц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 отведения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и некоторого увеличения зубца 5 (в отведения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; иногда бывают инверсия зубц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 отведениях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)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снижение сегмент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 отклонения связывают с изменением позиции сердца и его поперечным поворотом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е поднятия диафраг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гут нарушаться возбудимость и проводимость сер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чной мышцы, в результате чего возникают аритм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Эхокардиография, рентгенограф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 время беременности увеличивается масса миокарда и размеры различных отделов сердца ( увеличиваются левое предсердие и левый желудоче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нтгенологическом исследовании выявляется изменение контура сердца, напоминающее митральную конфигурац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Гемодинамические изменения в рода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о время схваток и особенно потуг АД повышается, АД снижается после разрыва плодного пузыря и рождения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большинства рожениц схватки сопровождаются тахикардией, у 25% наблюдается брадикардия, может возникать неполная и полная атриовентрикулярная блокада, экстрасисто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Эти отклонения объясняются повышением возбудимости проводящей системы сердца из-за высокого содержания в крови стероидных гормонов и увеличения выброса в кровь ацетилхолина во время сокращения мат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11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 время каждой схватки МО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на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—30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%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дарный объе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0-5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л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левого желудочка в схватку в первом периоде родов нарастает на 37,8% по сравнению с концом беременности, во втором периоде родов — на 92,8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благополучного исхода родов большое значение имеет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ункциональное состояние правых отделов сердца, особенно правого_ предсердия, так как на него ложится наибольшая нагрузка— прием и перекачивание в желудочек крови из огромного резервуара, каким является матка в последовом период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л кров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коллоидно-осмотического состояни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220464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моляльность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10мосм/кг воды к 20-22нед (вне беременности 291мосм/кг воды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натрия, калия, хлора, магния, кальция, фосфат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лоидно-онкотическое давление (КОД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24 мм рт с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ma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в 30-34 нед (у небеременных составляет – 26-28 мм рт ст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юкоза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2-3.8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моль/л (вне беременности 4,5-5,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чевин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4,3-4,0ммоль/л (вне беременности – 4,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иперлипидемия до 1,0г/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ле родов КОД снижается еще больше, что особенно опасно при терапии кристаллоидами вследствие развития интерстициального отека легки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функции внешнего дыхан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ребление кислорода к концу беременности увеличивается на 30-4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противление дыхательных путей снижается в 1,5ра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ледствие ограничения экскурсии диафрагмы во время беременности увеличивается частота дыхания ( на 10%)  и дыхательный объем (на 30-40%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тоге минутный объем дыхания повышается с 8,4л/мин до 11,1/мин. Увеличение дыхательного объема происходит за счет снижения резервного объема выхода. ЖЕЛ остается прежн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Нормой беременности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следует считать среднестатистические показатели гомеостаза и функциональных тестов, характерных для неосложненного течения беременности у практически здоровых женщин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аждому триместру беременности характерны свои нормы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гемостаза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Гемостаз зависит от состояния сосудистой стенки, тромбоцитов, факторов свертывания и фибринолиз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я количества, функции и длительности жизни  тромбоцитов у беременных не выявле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мечается повышенная активность факторов свертывания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ов) с 3ме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фибриногена повыш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бринолитическая активность плазмы снижается во время беременности, становится наименьшей  в период родов  и возвращается  к исходному через 1 час после рождения плацент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цента содержит ингибиторы, блокирующие фибриноли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лияние беременности на функцию поче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отмечается увеличение скорости почечного кровотока и гломерулярной фильтрации, осмотического клиренса с 500 до 700 мл/мин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жедневно фильтруется почти 100л жидко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езультате повышенной гломерулярной фильтрации и увеличенного объема плазмы уровень креатинина в сыворотке крови сниже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нтрация мочевой кислоты в сыворотке снижен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возможно появление ортостатической  протеинурии у 20% беременны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ругими физиологическими изменениями при беременности могут быть глюкозурия (до 140мг/сутки) и лактозур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увеличивается емкость мочевых путей, создаются условия для застоя и инфицирования моч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-46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риместре беременности примерно у 60% женщин создаются условия для возникновения патологически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флюкс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вязи с нарушением нервно-мышечного тонуса мочеточникового усть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 время беременности имеется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потония, гипокинезия, дискинез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чевых путей вследствие изменения гормонального баланса в организм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ысокий уровень прогестерона усиливает активность бета-рецепторов, вызывая гипотонию и дискенез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ысокий уровень эстрогенов, снижая альфа-рецепторную зависимость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следствие тесной нейрогенной связи верхних отделов мочевыводящих путей с сосудами почек возникшие динамические нарушения влекут за собой гемодинамические изменения в почке. Снижение тонуса почечных вен приводит к одновременному спазму артерий, что приводит к гипоксии и еще сильнее усугубляет расстройства уродина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мк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чевого пузыря  и внутрипузырное давление не меняютс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лияние беременности на функцию печен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истологически выявлено увеличение содержания гликогена и жировых отложений в клетках печ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белка в сыворотке крови снижается, к родам он может достигать 60г/л имеется снижение уровня альбуминов и увеличения альфа-и-бетта – глобулинов. Результатом изменений в составе белков сыворотки является увеличение СО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оценке б/х состава плазмы наиболее характерно увеличение щелочной фостфатазы  (с 26 до 75 МЕ против 25 МЕ у небеременных), прямого билирубина (до 0,5-3,0 ммоль/л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Анатомия женских половых орга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Женская половая систем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ладывается из парных яичников и маточных труб, матки, влагалища, наружных половых органов, а также молочных желёз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Функция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женской половой системы —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репродуктивна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ичник — герминатив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вогенез, овуляция) 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ндокрин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синтез и секреция эстрогенов и прогестерон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очная труба — транспорт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родвижение овулировавшей яйцеклетки в полость матки, оплодотворени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ка — вынашивание пл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нал шейки матк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лагалище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довые пу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лочная железа — вскармливание ребё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вариально менструальный цикл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2640" y="1773000"/>
            <a:ext cx="8631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вариальный ци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продолжение овогенеза (фазы роста и созревания фолликула), овуляция, формирование жёлтого тела. Овариальный цикл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егулиру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пофизарные гонадотропи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фолликулостимулирующи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ФСГ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лютеинизируюши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ЛГ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мо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струальный ци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характерные изменения слизистой оболочки матки, имеющие целью возможность имплантации и без наступления последней заканчивающиеся отторжением части эндометрия (менструация). Все фазы менструального цикла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онтролируют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моны яичника —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строге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естер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угие орга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(маточные трубы, канал шейки матки, влагалище, молочные железы) также подвергаются изменениям в рамках овариального цик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ружные половые органы: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обок, большие и малые половые губы, клитор, преддверие влагалища и промежность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обок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ли лонный бугор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ons pubis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ons veneris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еугольная площадка нижней части передней брюшной стенки с хорошо развитой жировой клетчаткой и оволосением по женскому тип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ольшие половые губы 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abia majora pudend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две кожные складки по боковым сторонам половой щели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ma pudend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олще губ расположены венозные сплетения, жировая клетчатка и большие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бартолиновы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лезы преддвери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landulae vestibulares majores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landulae vestibulares Bartholin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реди большие половые губы соединены спайкой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isura labiorum anterior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зади на границе с промежностью большие половые губы сливаются, образуя заднюю спайку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isura labiorum posterior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разведении губ задняя спайка напрягается, и становится видна тонкая поперечная складка — уздечка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enulum labiorum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зади от неё расположено углубление — ладьевидная ям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ssa navicularis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алые половые губы 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labia minora pudendi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дний край каждой малой половой губы расщепляется спереди на две ножки. Передние ножки обеих малых губ сливаются над клитором, образуя его крайнюю плоть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putium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дние ножки соединяются под клитором, образуя уздечку клитор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renulum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сердечно-сосудистой системы при беременност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перволемическая аутогемодилю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сердечного выбро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частоты сердечных сокращ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венозного д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ОПС сосуд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литор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с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lit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о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пещеристых тел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rpora cavernosa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ащённых с помощью ножек с нисходящими ветвями лобковых костей. Сходясь у нижнего края лонного сочленения, ножки образуют тело клитор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rpus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ющее округлую форму и заканчивающееся снаружи головкой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lans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еддверие влагалища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vestibulum vaginae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странство, ограниченное сверху клитором, снизу и сзади — задней спайкой больших половых губ, с боков — малыми половыми губами; дно преддверия влагалища образует девственная плева. С преддверием сообщаются влагалище, наружное отверстие мочеиспускательного канала и выводные протоки парауретральных (малых)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артолиновых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больших) желёз. Девственная плева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ymen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положена на границе между преддверием влагалища и влагалищ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омежность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perineum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жно-мышечно-фасциальная пластинка, расположенная между задней спайкой больших половых губ и копчиком. Фасции и мышцы промежности составляют тазовое 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нутренние половые органы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влагалище, матка и придатки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лагалищ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agina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растяжимый фиброзно-мышечный орган длиной 7-9 см, начинающийся от входа во влагалищ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roitus vaginae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канчивающийся сводом влагалища. Стенка влагалища состоит из трёх оболочек (слизистая, мышечная, адвентициальная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3440" y="188640"/>
            <a:ext cx="8440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лагалище.Слизистая оболочка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ногослойный плоский эпителий и собственный сл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пителий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огослойный плоский эпителий изнутри кнаружи состоит из базальных, промежуточных и поверхностных клеток. Эпителий подвергается частичному ороговению (поверхностные клетки содержат гранулы кератогиалина). В пролиферативную фазу менструального цикла в эпителии накапливается значительное количество гликогена. Гликоген используется влагалищной микрофлорой, а образующаяся при этом молочная кислота препятствует размножению патогенных микроорганизмов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лагалищный мазок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от фазы менструального цикла в мазке преобладают разные эпителиальные клетки: базальные, парабазальные, промежуточные, ладьевидные, поверхностные, ороговевающ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332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лагалище.Слизистая оболочка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ногослойный плоский эпителий и собственный сл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обственный слой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волокнистой соединительной ткани собственного слоя присутствуют лимфоциты, зернистые лейкоциты, иногда обнаруживаются лимфатические фолликул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лагалище.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троение стенки влагалищ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ышечная оболоч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ит из двух слоев ГМК. Внутренний (тонкий) слой содержит ГМК с циркулярной ориентацией. Наружный (толстый) слой образован продольными пучками ГМ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двентициальная оболоч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на волокнистой соединительной тканью и соединяет влагалище с окружающими структур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Матк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ат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представляет собой полый гладкомышечный орган грушевидной формы, уплощенный в переднее-заднем направлен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ина матки у нерожавших – 7-8см, у рожавших – 8-9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ирина – 4-5см в области дна, передне-задний размер – 2,5см, толщина мышечной стенки – 1,2с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сса матки – от 30 до 100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8748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5072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8559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ка состоит из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шей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между которыми выде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ерешее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В норме тело матки и шейка находятся под углом открытым кпереди. В теле выделяют дно, переднюю, заднюю стенки, правое и левое ребра. Шейка матки обычно длиной 3 см имеет коническую форму и нерожавших и цилиндрическую – у рожавших женщин. Шейка делится на надвлагалищную и влагалищную ча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ость матки имеет форму треугольной щели, длина которой – 7-8с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Физиологическая гиперволемия беременных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25-48%  с 12нед и  д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0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6н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ъем плаз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50% 3900-4000мл (26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 беременност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ъем эритроцит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18% (при приеме железа – на 32%) и достигает 1650мл (у небеременной 1400м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щий объем внеклеточной жидк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20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6,5 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Определенную роль в этой задержке жидкости играет альдостерон, секреция которого возрастает с 12-й не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ближается к первоначальному уровню спустя 2 нед после ро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троение стенки мат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нка матки представлена 3 слоями: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нутрен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ндометрий (однослойный цилиндрический эпителий, преврвщающийся во время беременности в децидуальную оболочку),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ред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иометрий, который представлен сплетением обильно кровоснабженных пучков гладкой мускулатуры,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аруж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ерозный (периметрий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троение стенки матки:миометри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иометрии различаю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аружный сло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продольное направление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, сред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с циркуляторным и косым направлением волокон),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нутренни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 продольным расположением волокон. Продольные пучки гладко-мышечных клеток наиболее выражены в дне и теле матки. Поперечно-расположенные пучки в дне матки представлены тонким слоем, толщина их значительно увеличивается в нижнем сегменте и шейке, области наружного и внутреннего зе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33256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точные трубы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10-12см):   интерстициальная, перешеечная,   ампулярная, фимбриальная част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>
            <a:lum contrast="6000"/>
          </a:blip>
          <a:srcRect l="-953" t="-5" r="5743" b="0"/>
          <a:stretch/>
        </p:blipFill>
        <p:spPr>
          <a:xfrm>
            <a:off x="2050920" y="1773360"/>
            <a:ext cx="6408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Маточные трубы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: стро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нка маточной трубы делится на 4 слоя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розную оболочку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постоянную подсерозную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шечную (состоящую из наружного и внутреннего продольного пучков и среднего циркулярного)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изистую, образующую в просвете трубы продольно расположенные склад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Яичник (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3х2х1,5см )– парный орган. Располагается в углублении париетальной брюшины, называемом яичниковой ямкой. Форма яичника овоидная, он сплющен спереди назад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4608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редством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собственных связо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яичники прикрепляются к углам матки. С помощью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подвешивающих связо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ни фиксируются к боковым стенкам таза. Яичник покрыт зародышевым эпителием, и лишь небольшая его часть располагается между листками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широкой маточной связки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упликатура брюшины, отходящая от заднего листка широкой связки, образует короткую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яичниковую брыжейк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Этот участок яичника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его ворот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>
            <a:lum contrast="6000"/>
          </a:blip>
          <a:srcRect l="-953" t="-5" r="5743" b="0"/>
          <a:stretch/>
        </p:blipFill>
        <p:spPr>
          <a:xfrm>
            <a:off x="4643280" y="1628640"/>
            <a:ext cx="4670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Физиологическое положение матки, труб и яичников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обеспечиваетс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одвешивающим, закрепляющим и поддерживающим аппаратам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К подвешивающему аппара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я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ственные связки яичник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ирокие связки мат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вешивающие связки яични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углые  маточн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-514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49132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Широкие маточные связ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ют собой фронтально расположенную дупликатуру брюшины, соединяющуюся с передней и задней поверхностью матки и направляющуюся к боковым стенкам таза, где она переходит в париетальную брюшин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ь широкой маточной связки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рыжейкой маточной труб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ду листками широкой связки заложен слой рыхлой клетчатки, разделенный фасциальной пластиной на два отдела: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ерх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ниж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развитой артериальной и венозной сетью, а также с проходящим здесь мочеточником. Эта часть широкой связки носит наз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лавной, или кардинально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-2973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83487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 передним листком широкой связки от передней поверхности матки по направлению к внутреннему отверстию пахового канала - проходит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углая маточная связ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Длина ее в среднем 10— 15 см, толщина 3—5 см. Круглые связки проходят через внутренние отверстия паховых каналов, постепенно истончаются и, выходя из пахового канала, полностью разветвляются в подкожной жировой клетчатке. В круглых связках проходи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артерия круглой связки мат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отходящая от нижней надчревной артер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-15444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Собственная связ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яич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представляет собой короткий парный, но достаточно плотный фиброзно-гладкомышечный тяж, соединяющий нижний (маточный) конец яичника с матк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одвешивающаяся связка яич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также парное образование, начинающееся от латеральной части широкой маточной связки в области трубного конца яичника и трубы и переходящее в брюшину боковой стенки таза в области крестцово-позвоночного сочленения, в ней проходя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яичниковые артерия и вен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0"/>
            <a:ext cx="845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лигоцитемическая гиповолем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ая анемия береме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b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 105-110г/л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2-34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0,32-0,34л/л   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32-34не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язкости крови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26-28нед, к моменту родов вязкость крови достигает нормального уровн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4920" y="620280"/>
            <a:ext cx="8559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К закрепляющему аппарат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относя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рдиналь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рестцово-маточ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но-маточ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но-лобковые связ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50720" y="-37008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486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рдинальные связ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составляют нижнюю  часть «зоны уплотнения»широкой маточной связки, являющейся наиболее мощной в системе закрепляющего аппара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естцово-маточные связ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бразованы преимущественно гладкомышечными и фиброзными волокнами и составляют заднюю часть «зоны уплотнения». От задней поверхности шейки матки, дугообразно охватывая с боков прямую  кишку, они  направляются к париетальному листку тазовой фасции на передней поверхности крестца. Верхняя часть связок приподнимает покрывающую их брюшину, образуя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прямокишечно-маточные склад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564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62064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К поддерживающему аппарату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относятся мускулатура тазового дна, представленна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иафрагмой таза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мочеполовой диафрагмой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вух поперечно-полосатых мышц (седалищно-пещеристой и луковично-пещеристой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натомически полость малого таза разделяется на 3 этажа: брюшинный, подбрюшинный и подкожный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ервый эта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условно ограничен сверху пограничной линией и снизу тазовой брюшиной. Здесь располагаются верхняя часть мочевого пузыря, большая часть матки, придатки, широкие маточные связки и верхний участок влагалищ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5640" y="-227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юшинный отдел таза является нижним отделом брюшной полости. Переходя с передней брюшной стенки на мочевой пузырь брюшина образует здесь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перечную пузырную складк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далее брюшина переходит на переднюю поверхность матки, создава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узырно-маточное углуб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есте перехода брюшины с матки на  прямую кишку брюшина формируе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ямокишечно-маточное углуб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две боковые складки, идущие в передне-заднем направлении к крестцу. Они носят названи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ямокишечно-маточных складо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содержат пучки мышечно-фиброзных волокон, являющихс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ресцово-маточны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вязк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-22752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торой этаж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граничен тазовой брюшиной, а снизу листком тазовой фасции, покрывающим сверху мышцу, поднимающую задний проход. Здесь располагаются внебрюшинные отделы мочевого пузыря и прямой кишки, шейка матки , большая часть влагалищ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Третий этаж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граничен сверху тазовой диафрагмой , а снизу – кожными покровами. Здесь находятся конечные отделы моче-половой системы и кишечной трубки. Сюда же относится седалищно-прямокишечная ямка, расположенная сбоку от промежностного отдела прямой киш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4668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нутренние половые органы снабжаются за счет сосудов, отходящих от внутренней подвздошной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ртерии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маточная артер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и от аорты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яичниковая артер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>
            <a:lum contrast="6000"/>
          </a:blip>
          <a:srcRect l="0" t="119" r="2910" b="0"/>
          <a:stretch/>
        </p:blipFill>
        <p:spPr>
          <a:xfrm>
            <a:off x="4846680" y="1197000"/>
            <a:ext cx="4297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932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41536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Яичникова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артерия ответвляется от аорты ниже места отхождения почечной артерии, перекрещивается с тазовым отделом мочеточника, вступает в подвешивающую  связку яичника, подходит к воротам яичника и дает 2 ветви –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яичниковую и трубну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31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аточная артер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ходит от внутренней подвздошной , подходит к боковой поверхности матки на уровне внутреннего зева, проходит вдоль ребра матки, отдавая мелкие горизонтальные ветви к матке ( дно, трубная, яичниковая ветви). От маточной отходит вниз влагалищная артер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 внутренней половой артерии отходя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омежностная артер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адняя артерия половых губ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родолжением  внутренней половой артерии явл.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ртерия клит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ртериальное давлени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 снижается в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на 5-15мм рт ст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28не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 АД соответствует уровню, отмечаемому до беремен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 в положении на спине соотвествует норме, а в положении – лежа на боку  ниже нормы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енозный отто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559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ают три основных пут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енозного отто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 мат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ерх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в яичниковую вену, которая направляется в забрюшинное пространство и впадает в почечную вену слева, справа – в нижнюю полу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н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редн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а образуют маточную вену, впадающую во внутреннюю подвздошну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иж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дел – собирает венозную кровь от шейки матки и влагалища (влагалищно-маточное сплетение). Это сплетение , сливаясь с венами мочевого пузыря, образует мощное пузырно-влагалищное сплет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нервация матк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559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тка снабжена нервными волокнами, отходящими от тазового сплетения, образованного нервными волокнами поясничного отдела симпатического ствола, нижнего подчревного сплетения и ветвями крестцового спле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7584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Вегетативная иннервация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631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дренергическая иннервац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иатор — норадреналин) преобладает в продольных пучках среднего (сосудистого) слоя миометрия, а также вокруг сосудов миометрия. Различа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ва типа адренорецеп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мембране ГМК. альфа-адренорецепторы, ответственные за сокращение ГМК, располагаются преимущественно на мембранах продольно расположенных пучков; бетта-адренорецепторы, активация которых приводит к расслаблению ГМК, находятся на мембранах циркулярно расположенных пучков ГМ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олинергическая иннервац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иатор — ацетилхолин) преобладает в циркулярно и спиралеобразно расположенных ГМК нижнего сегмента и шейки матки, в меньшей степени — в подсосудистом слое, прилегающем к эндометри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-154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лотност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ьфа- адренорецепторов зависит от содержания эстрогенов и простагландинов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етта-адренорецепторов — от концентрации прогестеро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убплацентарной зоне и внутреннем слое миометрия, непосредственно прилегающих к полости матки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рог возбудимост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ше, чем в других слоях; поэтому мышцы внутреннего слоя сокращаются слабее. Это предохраняет плод от чрезмерного сдавления, предотвращает нарушение маточно-плацентарного кровотока и преждевременную отслойку плаценты от стенки ма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переменное возбуждение симпатических и парасимпатических волок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зывает сокращение продольно расположенных мышечных пучков матки при одновременном активном расслаблении циркулярных и спиралеобразных, что приводит к постепенному раскрытию шейки матки и продвижению плода по родовому канал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Общее периферическое сопротивлени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С становится наиболее низким (снижается на 28,9%)  в 28- 32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ующие сроки беременности ОПС  повышается, но остается  на 10,4% ниже, чем у небеременны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чительное снижение ОПСС на 10,4% связыва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 образованием маточного круга кровообращения с низким периферическим сопротивление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 сосудорасширяющим действием эстрогенов и прогестер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енозное давл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ЦВД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в среднем 8 см вд ст (4-12), у небеременных – 3,6 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ление в венах верхних конечностей не изменяе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ление в венах нижних конечностей увеличивается  ( 7-10 см вд ст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индром сдавления  нижней полой вены(постуральный гипотонический синдром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7—14% случаев после 30—32 не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индром сдавления нижней полой вены или «гипотензивный синдром на спине»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овождается падением систолического давления на 25—30 мм рт. ст. и более. Через 2—3 мин появляются симптомы сердечно-сосудистой недостаточности, иногда с потерей созн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мощь: беременную необходимо немедленно перевести в вертикальное положение или повернуть на бок, либо сместить матку в сторон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тяжной синдром может привести к отслойке нормально прикрепленной плаценты, отеку легких во время кесарева сечения. Отек легких возникает вслед за извлечением плода, что объясняется быстрым увеличением венозного притока к сердцу после устранения сдавления нижней полой вен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09:00:49Z</dcterms:created>
  <dc:creator>Iggy</dc:creator>
  <dc:description/>
  <dc:language>en-US</dc:language>
  <cp:lastModifiedBy>Iggy</cp:lastModifiedBy>
  <dcterms:modified xsi:type="dcterms:W3CDTF">2007-01-24T16:54:15Z</dcterms:modified>
  <cp:revision>91</cp:revision>
  <dc:subject/>
  <dc:title>Адаптационные изменения при физиологической беременности</dc:title>
</cp:coreProperties>
</file>